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33.wmf" ContentType="image/x-wmf"/>
  <Override PartName="/ppt/media/image9.wmf" ContentType="image/x-wmf"/>
  <Override PartName="/ppt/media/image30.wmf" ContentType="image/x-wmf"/>
  <Override PartName="/ppt/media/image27.jpeg" ContentType="image/jpeg"/>
  <Override PartName="/ppt/media/image28.wmf" ContentType="image/x-wmf"/>
  <Override PartName="/ppt/media/image3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4.png" ContentType="image/png"/>
  <Override PartName="/ppt/media/image34.png" ContentType="image/png"/>
  <Override PartName="/ppt/media/image17.wmf" ContentType="image/x-wmf"/>
  <Override PartName="/ppt/media/image3.gif" ContentType="image/gif"/>
  <Override PartName="/ppt/media/image14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2.gif" ContentType="image/gif"/>
  <Override PartName="/ppt/media/image1.jpeg" ContentType="image/jpeg"/>
  <Override PartName="/ppt/media/image15.wmf" ContentType="image/x-wmf"/>
  <Override PartName="/ppt/media/image16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42C3-5FFC-40A4-AE35-0348D6035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CBC3-92DD-4E15-B4F4-053DAD9D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55DB-61F0-4875-8F69-A58189D10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1E61-6BDA-4C55-99D5-CA76FD33E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9606-9B19-4B7B-9DF0-3F4F06975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D6B6-7E53-4D6E-92B1-198C8E19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2670-00CD-4FC3-B79A-9266741E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276D-FBC1-4C54-9F04-A5318131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0E13-3D6D-425C-9D38-2DB3E556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4815-EBBA-4DCD-9954-6CB0491C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AD9E-7AC3-4503-AFE7-8741180A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3925-F691-4A5B-969F-3E26B450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EB42-D1A5-4A09-A4EF-7074BA41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0780-EFFF-4EBB-BBEA-D23869AE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7985-E764-4419-8B09-8FC3A38C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18DF-9AC6-4DD0-A14D-E7C23ABA9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12AC-F951-45CD-B783-CCC8AFC5A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185C-0AEC-466D-94EC-73B02011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E6DF-F0A4-4B52-9E91-FA1C529C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A7EC-5FEE-4C3E-94FC-593073F8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DBAF-6229-4919-B34B-9A60A57F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5854-9F22-4427-937D-1F163C1E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3F3A-4ACB-4798-93B4-75CC611E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F5C2-3939-4D28-8A7A-EE97AA9F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22B5-B332-4390-81E1-86C7A7A73C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1119-179E-4BC9-833E-FCC9CCD3F6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olarviews.com/cap/meteor/iron.htm" TargetMode="External"/><Relationship Id="rId3" Type="http://schemas.openxmlformats.org/officeDocument/2006/relationships/image" Target="../media/image34.png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xploring Space with an Astronau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cabulary and Amazing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G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escen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go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095880" y="1752480"/>
            <a:ext cx="1600200" cy="2286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80880" y="2971800"/>
            <a:ext cx="1824120" cy="1824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7848720" y="990720"/>
            <a:ext cx="679320" cy="904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7315200" y="5105520"/>
            <a:ext cx="679320" cy="904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2666880" y="2514600"/>
            <a:ext cx="3062520" cy="3468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8686800" y="609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14909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rbi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th of something like a spacecraft or planet around something in space, such as Earth or the s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2259000" cy="2268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705720" y="3124080"/>
            <a:ext cx="1819080" cy="1801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609480" y="3429000"/>
            <a:ext cx="1828800" cy="1827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845820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" dur="4609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univers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up of Earth, the sun, the moon, and all the other planets and stars in the s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209680" y="2971800"/>
            <a:ext cx="4267440" cy="32018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38188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500"/>
                            </p:stCondLst>
                            <p:childTnLst>
                              <p:par>
                                <p:cTn id="2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17078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journe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ong tr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676520" y="2895480"/>
            <a:ext cx="4671720" cy="34671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6248520" y="457200"/>
            <a:ext cx="2233440" cy="2155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aunch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ting something started or go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581280" y="2286000"/>
            <a:ext cx="1820880" cy="1820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33520" y="3809880"/>
            <a:ext cx="1903320" cy="1878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6477120" y="3886200"/>
            <a:ext cx="1604880" cy="1808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3733920" y="4419720"/>
            <a:ext cx="1790640" cy="1746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845820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800100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768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5" dur="768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7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9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27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771"/>
                            </p:stCondLst>
                            <p:childTnLst>
                              <p:par>
                                <p:cTn id="2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" dur="2132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eteori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iece of stone from space that hits some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2819520"/>
            <a:ext cx="2924280" cy="20271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609480" y="3124080"/>
            <a:ext cx="1773360" cy="1739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3505320" y="4572000"/>
            <a:ext cx="1820880" cy="1584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822960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7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0" dur="1545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trona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ut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mazing Word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c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b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u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eo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stronau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son who has been trained to fly a space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791320" y="2971800"/>
            <a:ext cx="2357280" cy="2324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33520" y="3048120"/>
            <a:ext cx="2438280" cy="2212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huttl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pacecraft with wings, which can orbit the Earth, land like an airplane, and be used ag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943600" y="3962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990720" y="4267080"/>
            <a:ext cx="1322280" cy="1827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657600" y="2971800"/>
            <a:ext cx="17748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xperime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est to find out some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09480" y="2666880"/>
            <a:ext cx="3452760" cy="3449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095880" y="2438280"/>
            <a:ext cx="1881360" cy="3413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elescop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you look through to make things far away seem nearer and lar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781680" y="5029200"/>
            <a:ext cx="1827360" cy="1400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04920" y="3581280"/>
            <a:ext cx="2863800" cy="2684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962520" y="3429000"/>
            <a:ext cx="1819080" cy="181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gravit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atural force that causes objects to move toward the center of the Ea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048120" y="3505320"/>
            <a:ext cx="2894040" cy="2894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768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768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" dur="768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" dur="768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scen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go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124080" y="1295280"/>
            <a:ext cx="2286000" cy="3276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543800" y="762120"/>
            <a:ext cx="573120" cy="909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09480" y="3581280"/>
            <a:ext cx="1971720" cy="1971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191120" y="5029200"/>
            <a:ext cx="674640" cy="947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5943600" y="3048120"/>
            <a:ext cx="2992320" cy="3468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838188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14909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02:56:40Z</dcterms:created>
  <dc:creator> </dc:creator>
  <dc:description/>
  <dc:language>en-US</dc:language>
  <cp:lastModifiedBy>dyera</cp:lastModifiedBy>
  <dcterms:modified xsi:type="dcterms:W3CDTF">2007-09-05T16:39:35Z</dcterms:modified>
  <cp:revision>4</cp:revision>
  <dc:subject/>
  <dc:title>Exploring Space with an Astronaut</dc:title>
</cp:coreProperties>
</file>